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7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643-2CC6-4AF2-96C3-F2A279AF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70C-52C1-45DB-800F-4EC0A772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1D0-15FB-44B9-B2A1-5FC9CBD2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B53-5D2D-4C5A-87C3-9B60F17D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52E2C-46DD-4549-8736-CBDEED0B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F3AA0-F7AD-4E1F-B83A-BF9E24A8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E7562-2123-4B9F-9866-6DD80345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9F1E2-E0BF-4A3A-8833-9637C293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50FA3-5DA2-4615-99D9-91E108CC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32432-3DF6-4591-8971-1AB5FF3E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1959E-E9B5-4598-A8D7-6C9FEEB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E45-4BB0-4711-94E2-8EAAD16C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3F6B7-8F19-4505-9F75-B03130F4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174DE-A3C7-4655-A216-24D0CBBC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3B8A6-D8A3-4E10-8EEC-A1776DC5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B22EA-7856-492D-A25A-B6A71661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1A7F6-4BFA-4854-AD96-DBE5A4E4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D7F0A-21F7-4E59-9673-089C4B3D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59BF-85E9-44B9-8721-C76B12D5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83AEF-0DFF-4A8C-8CE1-1238A58D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9D62-3B07-408D-91E7-CE1F2EF1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DA6A-2A84-44B5-8F35-611416F7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C6C-877A-4540-B77C-8A6DDFFE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7DC7-D821-474A-B7D7-6AB2C113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C5695-3CFB-4CF0-8A68-E9A39AA7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90B9-DE1E-4D6F-A23A-72E0A028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7C2A-11F7-4A97-AF3D-CC157317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C344-4D86-41CC-B0DA-CD1E8F49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D7E0-8C96-4F50-8D02-C9E562B5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D99B-71FE-4083-8BA5-E650136D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20B42-EDD2-4ABC-BFD1-6DA02137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06323-7EF9-4AD2-8651-4B9B7BF0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8A1CA-6EA6-4654-9C0E-2FAFD601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149-932E-4ED4-A878-9B1D582E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E332F-56EC-4DE5-8EB4-F74F2D99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9AC03-5E21-4EE2-A5A2-53D061B9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70975-8038-4B54-873A-9284F70B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CA970-7738-4FAF-AB9C-CE3B8BB6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AD110-B9AE-4CA5-A8D5-AB025A97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56E46-1A80-4A7A-B33D-00751716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8E01E-EE05-4F3D-B436-C698725A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F1B46-2B8D-4D11-A625-58F11BCC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F43AD-FDE3-40D0-BD48-74A965B4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8B2-669A-4472-89F0-B76190C1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34A-2D7E-4973-A10D-74070D4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D99-3E80-4742-8F36-63BB5D6B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053-E537-4BB0-92AC-F368BACC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FB5-ED4E-4D34-BEAF-F0C2330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FE65-398A-40E7-83D7-024E910F971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A804-1518-47BF-8938-5823D3994C2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E622-F0FC-4520-AECC-A90173D45E5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A4DA-69A9-479F-BD4E-20BA2772692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upload.wikimedia.org/wikipedia/commons/b/bd/Kingdoms_of_Israel_and_Judah_map_830.sv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uJ1Z7d7cMQ" TargetMode="External"/><Relationship Id="rId2" Type="http://schemas.openxmlformats.org/officeDocument/2006/relationships/hyperlink" Target="http://www.youtube.com/watch?v=9MHt70IaY1U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http://upload.wikimedia.org/wikipedia/commons/7/73/Dreidel_001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Jewish holy book, the Tanakh, was given to Moses by Go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d also gave Moses oral commentary, which is now written in the Talmu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leting this is the Midrashim, which is a compendium of other writing and stories considered important by the Jew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llectively these components are called the Tora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http://www.concurringopinions.com/archives/torah.jpg"/>
          <p:cNvPicPr/>
          <p:nvPr/>
        </p:nvPicPr>
        <p:blipFill>
          <a:blip r:embed="rId2"/>
          <a:stretch/>
        </p:blipFill>
        <p:spPr>
          <a:xfrm>
            <a:off x="971640" y="5013360"/>
            <a:ext cx="2305080" cy="1681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http://www.judaicacatalog.com/torah-pointers/torah-pointer-images/torah-pointer-NY0022-L.jpg"/>
          <p:cNvPicPr/>
          <p:nvPr/>
        </p:nvPicPr>
        <p:blipFill>
          <a:blip r:embed="rId3"/>
          <a:stretch/>
        </p:blipFill>
        <p:spPr>
          <a:xfrm>
            <a:off x="3708360" y="5011560"/>
            <a:ext cx="17272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68360" y="1484280"/>
            <a:ext cx="741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menorah is one of the oldest Jewish symbols, and was the candelabra used in Solomon’s Tem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most commonly known Jewish symbol is the Star of David. It emerged in the middle ages, and is far from the oldest or most significant Jewish symbo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most recognizable piece of Jewish garb is the yarmulke, which ironically has very little religious signific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Seven-Branched Menorah"/>
          <p:cNvPicPr/>
          <p:nvPr/>
        </p:nvPicPr>
        <p:blipFill>
          <a:blip r:embed="rId2"/>
          <a:stretch/>
        </p:blipFill>
        <p:spPr>
          <a:xfrm>
            <a:off x="7812000" y="170028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Yarmulke as worn"/>
          <p:cNvPicPr/>
          <p:nvPr/>
        </p:nvPicPr>
        <p:blipFill>
          <a:blip r:embed="rId3"/>
          <a:stretch/>
        </p:blipFill>
        <p:spPr>
          <a:xfrm>
            <a:off x="7812000" y="4508640"/>
            <a:ext cx="1152720" cy="1495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Magen David"/>
          <p:cNvPicPr/>
          <p:nvPr/>
        </p:nvPicPr>
        <p:blipFill>
          <a:blip r:embed="rId4"/>
          <a:stretch/>
        </p:blipFill>
        <p:spPr>
          <a:xfrm>
            <a:off x="7740720" y="2924280"/>
            <a:ext cx="14032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613 mitzvah are the basic of our modern values, because they  were in turn adopted by Christianity and spread all over the worl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concept of compound interest, devised in Mesopotamia, was instituted and practiced by the Jews. Compound interest is a driving force in our economy, and finances our banking system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89960" cy="1231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hossank.com/forum/images/babylontablet.jpg"/>
          <p:cNvPicPr/>
          <p:nvPr/>
        </p:nvPicPr>
        <p:blipFill>
          <a:blip r:embed="rId2"/>
          <a:srcRect l="0" t="0" r="4340" b="3709"/>
          <a:stretch/>
        </p:blipFill>
        <p:spPr>
          <a:xfrm>
            <a:off x="971640" y="4514760"/>
            <a:ext cx="1439640" cy="1963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http://www.sliceofscifi.com/wp-content/uploads/2007/11/norm-45c58bb72ebd6-raidersofthelostarkindianajones1981.jpg"/>
          <p:cNvPicPr/>
          <p:nvPr/>
        </p:nvPicPr>
        <p:blipFill>
          <a:blip r:embed="rId3"/>
          <a:stretch/>
        </p:blipFill>
        <p:spPr>
          <a:xfrm>
            <a:off x="3054240" y="4519440"/>
            <a:ext cx="2381400" cy="19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One of the greatest influences the Jews has was their institution of court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While not directly affecting art and science, Judaism is the foundation of Christianity and Islam, which have both had profound implications in Art and Sci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Jewish architecture is influentia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in the sense that many mosqu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and churches are built in th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style of synagogu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http://upload.wikimedia.org/wikipedia/commons/thumb/4/4f/Rembrandt_Harmensz._van_Rijn_035.jpg/250px-Rembrandt_Harmensz._van_Rijn_035.jpg"/>
          <p:cNvPicPr/>
          <p:nvPr/>
        </p:nvPicPr>
        <p:blipFill>
          <a:blip r:embed="rId2"/>
          <a:stretch/>
        </p:blipFill>
        <p:spPr>
          <a:xfrm>
            <a:off x="5651640" y="3789360"/>
            <a:ext cx="18730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File:ReginaJonas1.jpg"/>
          <p:cNvPicPr/>
          <p:nvPr/>
        </p:nvPicPr>
        <p:blipFill>
          <a:blip r:embed="rId1"/>
          <a:stretch/>
        </p:blipFill>
        <p:spPr>
          <a:xfrm>
            <a:off x="5003640" y="4221000"/>
            <a:ext cx="1729080" cy="2206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In Judaism, women are considered separate, but equal, to men. They may have different responsibilities, but are not seen as less importa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Women are said to have more intuition and understanding than m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Reform Jews are much less traditional, recently, female rabbi’s have been allowe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re are approximately 13.3 million Jewish people in the wor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US and Israel have the largest Jewish populations, with 85% of  the Jewish demographic between the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9" name="Picture 2" descr="File:Judaism percentage by country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Judaism 101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. Web. 27 Oct. 2010. &lt;http://www.jewfaq.org/index.htm&gt;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100ce, By Around. "Judaism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ABC.net.au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Web. 27 Oct. 2010. &lt;http://www.abc.net.au/religion/stories/s796551.htm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2080, By. "World Jewish Population | Latest Statistics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Judaism Online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Web. 27 Oct. 2010. &lt;http://www.simpletoremember.com/vitals/world-jewish-population.htm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"History of Judaism - ReligionFacts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Religion, World Religions, Comparative Religion - Just the Facts on the World's Religions.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Web. 27 Oct. 2010. &lt;http://www.religionfacts.com/judaism/history.htm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"Messiah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Wikipedia, the Free Encyclopedia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Web. 27 Oct. 2010. &lt;http://en.wikipedia.org/wiki/Messiah#Judaism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Ruggiero, Adriane.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Judaism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Farmington Hills, MI: Greenhaven, 2006. Print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"The Written Law (The Torah)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Jewish Virtual Library - Homepage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Web. 27 Oct. 2010. &lt;http://www.jewishvirtuallibrary.org/jsource/Judaism/The_Written_Law.html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4" name="Picture 2" descr="http://www.bibletrack.com/notes/image/Gen_15_territor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7" name="Picture 2" descr="File:Kingdoms of Israel and Judah map 830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5600" y="0"/>
            <a:ext cx="57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0" name="Picture 2" descr="Genealogy chart of the Terah family"/>
          <p:cNvPicPr/>
          <p:nvPr/>
        </p:nvPicPr>
        <p:blipFill>
          <a:blip r:embed="rId2"/>
          <a:stretch/>
        </p:blipFill>
        <p:spPr>
          <a:xfrm>
            <a:off x="0" y="0"/>
            <a:ext cx="935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2000-1500 BCE: Abraham and the Patriarch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1050-920 BCE Kings Saul, David and Solom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920-597 BCE Kingdoms of Israel and Juda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605 BCE Babylon conquers Egypt, now rules Judah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586 BCE Destruction of the First Tem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64 CE Jerusalem captured by Roman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70 CE Destruction of the Second Tem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35-1204 CE Maimonid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timelineindex.com/imagesThumb/255_2765.png"/>
          <p:cNvPicPr/>
          <p:nvPr/>
        </p:nvPicPr>
        <p:blipFill>
          <a:blip r:embed="rId2"/>
          <a:stretch/>
        </p:blipFill>
        <p:spPr>
          <a:xfrm>
            <a:off x="6948360" y="3716280"/>
            <a:ext cx="1650960" cy="1650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Temple.jpg (165698 bytes)"/>
          <p:cNvPicPr/>
          <p:nvPr/>
        </p:nvPicPr>
        <p:blipFill>
          <a:blip r:embed="rId3"/>
          <a:stretch/>
        </p:blipFill>
        <p:spPr>
          <a:xfrm>
            <a:off x="4572000" y="4869000"/>
            <a:ext cx="219060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principles of Judaism are called the Halahka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is is a list of 613 commandments described by God in the Torah.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Due to circumstance and change in political structure, only 271 mitzvah apply to modern lif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Judaism discourages proselytiz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Also, Judaism believes that you do not have to be Jewish in order to go to heav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http://www.youtube.com/watch?v=8uJ1Z7d7cMQ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youtube.com/watch?v=9MHt70IaY1U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Rosh Hashanah: Jewish Near Ye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Yom Kippur: Day of Aton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Passover: A seven day holiday to remember the Exodus, usually occurs near Easte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Chanukkah: The festival of lights, an eight day holiday to celebrate the rededication of the Second temple in Jerusalem. Usually occurs before Christm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zedomax.com/blog/wp-content/uploads/2008/12/menorah-16020m.jpg"/>
          <p:cNvPicPr/>
          <p:nvPr/>
        </p:nvPicPr>
        <p:blipFill>
          <a:blip r:embed="rId2"/>
          <a:stretch/>
        </p:blipFill>
        <p:spPr>
          <a:xfrm>
            <a:off x="900000" y="4581360"/>
            <a:ext cx="1843200" cy="1843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:Dreidel 0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4581360"/>
            <a:ext cx="1442880" cy="185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upload.wikimedia.org/wikipedia/commons/thumb/e/e0/Chanukah_gelt.jpg/350px-Chanukah_gelt.jpg"/>
          <p:cNvPicPr/>
          <p:nvPr/>
        </p:nvPicPr>
        <p:blipFill>
          <a:blip r:embed="rId5"/>
          <a:stretch/>
        </p:blipFill>
        <p:spPr>
          <a:xfrm>
            <a:off x="5364000" y="4941720"/>
            <a:ext cx="1801800" cy="11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raham: Abraham is considered the founder of the Jewish faith. God spoke to Abraham and told him that if he left his home for Canaan, God would give him a great nation for likeminded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es: Moses led the Exodus from Egypt, and was given the Ten Commandments by God. He is the most important prophet in Jewish tradi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Maimonides:  Maimonides was a Jewish Scholar in Moorish Spain. He is renown for his Thirteen Principles of Faith, which are similar to Christianity’s Ten Commandment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ewish worship is usually lead by a rabbi, who roughly corresponds to a minister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nagogues are usually administered over by a council of elders, similar to deacons is Christianit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ough the synagogue is seen as a place of worship, religious life is seen as centered around the hom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images.travelpod.com/users/stevelegassick/45.1210348800.new-synagogue.jpg"/>
          <p:cNvPicPr/>
          <p:nvPr/>
        </p:nvPicPr>
        <p:blipFill>
          <a:blip r:embed="rId2"/>
          <a:stretch/>
        </p:blipFill>
        <p:spPr>
          <a:xfrm>
            <a:off x="900000" y="429264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Right and wrong ways to wear a tallit"/>
          <p:cNvPicPr/>
          <p:nvPr/>
        </p:nvPicPr>
        <p:blipFill>
          <a:blip r:embed="rId3"/>
          <a:stretch/>
        </p:blipFill>
        <p:spPr>
          <a:xfrm>
            <a:off x="4716360" y="4295880"/>
            <a:ext cx="30243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8:58:31Z</dcterms:created>
  <dc:creator>Profile</dc:creator>
  <dc:description/>
  <dc:language>en-US</dc:language>
  <cp:lastModifiedBy>Profile</cp:lastModifiedBy>
  <dcterms:modified xsi:type="dcterms:W3CDTF">2010-10-29T06:05:29Z</dcterms:modified>
  <cp:revision>9</cp:revision>
  <dc:subject/>
  <dc:title>Judaism</dc:title>
</cp:coreProperties>
</file>